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uperb.wav" ContentType="audio/x-wav"/>
  <Override PartName="/ppt/media/voltage.wav" ContentType="audio/x-wav"/>
  <Override PartName="/ppt/media/image2.png" ContentType="image/png"/>
  <Override PartName="/ppt/media/image3.png" ContentType="image/png"/>
  <Override PartName="/ppt/media/image4.gif" ContentType="image/gif"/>
  <Override PartName="/ppt/media/suction.wav" ContentType="audio/x-wav"/>
  <Override PartName="/ppt/media/image5.gif" ContentType="image/gif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C93-710F-4C78-BA49-734FD17D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0DC-90C6-41D5-B0B8-35251AC1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DF0-4386-49BC-BA48-C4428D99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7BB-ECD4-46F8-936D-EF9F6E81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8E4-3121-4912-8BEF-D9B24A72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FB9-CC1E-4A7E-9694-9D2811BF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A3E-D03A-4F71-82FE-E5C8E1C7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A4F-4F71-4319-A6DC-9167A709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AE1-0FC7-403E-81B5-FC3D9A30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6E8-72C8-4EC4-8078-1D440A9C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DA4-655E-4B43-9502-554B794D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7A6-2855-4EE7-9FD1-FBBF5618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BB2B-8AC1-40C6-86A9-7E34F34AD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superb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starbk"/>
          <p:cNvPicPr/>
          <p:nvPr/>
        </p:nvPicPr>
        <p:blipFill>
          <a:blip r:embed="rId1"/>
          <a:stretch/>
        </p:blipFill>
        <p:spPr>
          <a:xfrm>
            <a:off x="-228600" y="-171360"/>
            <a:ext cx="9601200" cy="7200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nry and Mudge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rry Night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nthia Ry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514600" y="5181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 30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685800" y="2544840"/>
            <a:ext cx="80773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chicken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couldn’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dance very well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hickendance"/>
          <p:cNvPicPr/>
          <p:nvPr/>
        </p:nvPicPr>
        <p:blipFill>
          <a:blip r:embed="rId2"/>
          <a:stretch/>
        </p:blipFill>
        <p:spPr>
          <a:xfrm>
            <a:off x="4648320" y="0"/>
            <a:ext cx="2590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52280" y="281952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alk in a   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straigh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line, please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feet8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4343400" y="3048120"/>
            <a:ext cx="4572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52280" y="281952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alk in a   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straigh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line, please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eet8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52280" y="2819520"/>
            <a:ext cx="678204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I just    </a:t>
            </a:r>
            <a:r>
              <a:rPr b="0" lang="en-US" sz="117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Tigger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igrrr"/>
          <p:cNvPicPr/>
          <p:nvPr/>
        </p:nvPicPr>
        <p:blipFill>
          <a:blip r:embed="rId2"/>
          <a:stretch/>
        </p:blipFill>
        <p:spPr>
          <a:xfrm>
            <a:off x="7391520" y="2362320"/>
            <a:ext cx="1212840" cy="3581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2971800" y="3200400"/>
            <a:ext cx="4114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52280" y="2819520"/>
            <a:ext cx="678204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I just    </a:t>
            </a:r>
            <a:r>
              <a:rPr b="0" lang="en-US" sz="117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Tigger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igrrr"/>
          <p:cNvPicPr/>
          <p:nvPr/>
        </p:nvPicPr>
        <p:blipFill>
          <a:blip r:embed="rId2"/>
          <a:stretch/>
        </p:blipFill>
        <p:spPr>
          <a:xfrm>
            <a:off x="7391520" y="2362320"/>
            <a:ext cx="1212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76320" y="1828800"/>
            <a:ext cx="61722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My 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mother</a:t>
            </a: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is a teach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eacher"/>
          <p:cNvPicPr/>
          <p:nvPr/>
        </p:nvPicPr>
        <p:blipFill>
          <a:blip r:embed="rId2"/>
          <a:stretch/>
        </p:blipFill>
        <p:spPr>
          <a:xfrm>
            <a:off x="6324480" y="304920"/>
            <a:ext cx="2532240" cy="6181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1752480" y="182880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76320" y="1828800"/>
            <a:ext cx="61722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My 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mother</a:t>
            </a: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is a teach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teacher"/>
          <p:cNvPicPr/>
          <p:nvPr/>
        </p:nvPicPr>
        <p:blipFill>
          <a:blip r:embed="rId2"/>
          <a:stretch/>
        </p:blipFill>
        <p:spPr>
          <a:xfrm>
            <a:off x="6324480" y="304920"/>
            <a:ext cx="253224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762120" y="838080"/>
            <a:ext cx="79246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1905120" y="1676520"/>
            <a:ext cx="5257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Arial"/>
              </a:rPr>
              <a:t>lov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1143000" y="1752480"/>
            <a:ext cx="7086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starbk"/>
          <p:cNvPicPr/>
          <p:nvPr/>
        </p:nvPicPr>
        <p:blipFill>
          <a:blip r:embed="rId1"/>
          <a:stretch/>
        </p:blipFill>
        <p:spPr>
          <a:xfrm>
            <a:off x="-228600" y="-171360"/>
            <a:ext cx="9601200" cy="720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nt the words one time as they appea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362320" y="220968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ld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838080" y="1752480"/>
            <a:ext cx="7848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Arial"/>
              </a:rPr>
              <a:t>mother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couldn’t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bea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straight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838080" y="17524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build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609480" y="3581280"/>
            <a:ext cx="784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00"/>
                </a:solidFill>
                <a:latin typeface="Arial"/>
              </a:rPr>
              <a:t>Superb!!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clown"/>
          <p:cNvPicPr/>
          <p:nvPr/>
        </p:nvPicPr>
        <p:blipFill>
          <a:blip r:embed="rId2"/>
          <a:stretch/>
        </p:blipFill>
        <p:spPr>
          <a:xfrm>
            <a:off x="6629400" y="762120"/>
            <a:ext cx="16765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per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ome2level"/>
          <p:cNvPicPr/>
          <p:nvPr/>
        </p:nvPicPr>
        <p:blipFill>
          <a:blip r:embed="rId2"/>
          <a:stretch/>
        </p:blipFill>
        <p:spPr>
          <a:xfrm>
            <a:off x="4191120" y="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380880" y="4114800"/>
            <a:ext cx="8763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Dad will   build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191120" y="4038480"/>
            <a:ext cx="4114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ome2level"/>
          <p:cNvPicPr/>
          <p:nvPr/>
        </p:nvPicPr>
        <p:blipFill>
          <a:blip r:embed="rId2"/>
          <a:stretch/>
        </p:blipFill>
        <p:spPr>
          <a:xfrm>
            <a:off x="4419720" y="-16524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0" y="3168720"/>
            <a:ext cx="914400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Dad will   </a:t>
            </a:r>
            <a:r>
              <a:rPr b="0" lang="en-US" sz="10600" spc="-1" strike="noStrike">
                <a:solidFill>
                  <a:srgbClr val="ffff00"/>
                </a:solidFill>
                <a:latin typeface="Arial"/>
              </a:rPr>
              <a:t>build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ome2level"/>
          <p:cNvPicPr/>
          <p:nvPr/>
        </p:nvPicPr>
        <p:blipFill>
          <a:blip r:embed="rId2"/>
          <a:stretch/>
        </p:blipFill>
        <p:spPr>
          <a:xfrm>
            <a:off x="4191120" y="-15228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0" y="32767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Father      will build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3200400"/>
            <a:ext cx="4495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ome2level"/>
          <p:cNvPicPr/>
          <p:nvPr/>
        </p:nvPicPr>
        <p:blipFill>
          <a:blip r:embed="rId2"/>
          <a:stretch/>
        </p:blipFill>
        <p:spPr>
          <a:xfrm>
            <a:off x="4191120" y="-152280"/>
            <a:ext cx="4128840" cy="3975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3276720"/>
            <a:ext cx="914400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00"/>
                </a:solidFill>
                <a:latin typeface="Arial"/>
              </a:rPr>
              <a:t>Father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will build     a new house for us.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04920" y="3108240"/>
            <a:ext cx="8076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  bear looked at all the stars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bearbrown"/>
          <p:cNvPicPr/>
          <p:nvPr/>
        </p:nvPicPr>
        <p:blipFill>
          <a:blip r:embed="rId2"/>
          <a:stretch/>
        </p:blipFill>
        <p:spPr>
          <a:xfrm>
            <a:off x="609480" y="762120"/>
            <a:ext cx="2667240" cy="2120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2438280" y="3048120"/>
            <a:ext cx="5334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533520" y="3124080"/>
            <a:ext cx="80769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bear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looked at all the stars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bearbrown"/>
          <p:cNvPicPr/>
          <p:nvPr/>
        </p:nvPicPr>
        <p:blipFill>
          <a:blip r:embed="rId2"/>
          <a:stretch/>
        </p:blipFill>
        <p:spPr>
          <a:xfrm>
            <a:off x="609480" y="762120"/>
            <a:ext cx="26672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starb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685800" y="2544840"/>
            <a:ext cx="80773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chicken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ouldn’t       dance very well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hickendance"/>
          <p:cNvPicPr/>
          <p:nvPr/>
        </p:nvPicPr>
        <p:blipFill>
          <a:blip r:embed="rId2"/>
          <a:stretch/>
        </p:blipFill>
        <p:spPr>
          <a:xfrm>
            <a:off x="4648320" y="0"/>
            <a:ext cx="2590560" cy="2470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762120" y="3733920"/>
            <a:ext cx="48765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00:04:38Z</dcterms:created>
  <dc:creator>WebMaster</dc:creator>
  <dc:description/>
  <dc:language>en-US</dc:language>
  <cp:lastModifiedBy>Laura McDow</cp:lastModifiedBy>
  <dcterms:modified xsi:type="dcterms:W3CDTF">2010-07-29T16:39:00Z</dcterms:modified>
  <cp:revision>11</cp:revision>
  <dc:subject/>
  <dc:title>Henry and Mudge and the Starry Night by Cynthia Rylant</dc:title>
</cp:coreProperties>
</file>